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483C-3946-47BD-B717-91EEEB41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DE44-4B8C-4947-A05F-BDBB469C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361-8A3E-4C3D-9117-ADA2C906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6FD-5894-4D79-9547-E2CBA75F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82F-7551-46E2-8791-8F9CC84C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931-3CE4-4881-8501-4CD4EA37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9D10-4A7A-4B49-8149-E1B4842C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7D8-BAD9-4101-837E-379A7566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95C-AE55-4616-BA1A-B20C22F4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050-B3AC-4433-A987-2C19BD7D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CEA-0D5C-4786-A10F-44683E10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3821-53A4-4579-A4C6-EA2C813B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7DBA-8129-43DB-AFB1-B88E0CED7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remove your branches of common directories if you don’t need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447920"/>
            <a:ext cx="3200400" cy="99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6765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6765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16765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1676520"/>
            <a:ext cx="3200400" cy="990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19051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05720" y="19051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19051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1905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819520"/>
            <a:ext cx="3200400" cy="990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30481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30481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38680" y="3048120"/>
            <a:ext cx="53352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3048120"/>
            <a:ext cx="533160" cy="5331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9718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3124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3124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3124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3124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962160" y="32767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1148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434340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4343400"/>
            <a:ext cx="53352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43434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419112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520" y="99072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s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9907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remove your branches of common directories if you don’t need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add a “/main/0”-clause at end of config spec to ensure correct lab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learCase-element-entry in a 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Entry named "makefile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Unable to create element "makefil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file maybe eclipsed by a private file: rename, </a:t>
            </a:r>
            <a:br>
              <a:rPr sz="1600"/>
            </a:b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checkout the appearing file, over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makefile already exists in some version … 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onsider use of hard link to the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file existed in a former version of the </a:t>
            </a:r>
            <a:br>
              <a:rPr sz="1600"/>
            </a:b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directory: merge from  old dir-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remove your branches of common directories if you don’t need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add a “/main/0”-clause at end of config spec to ensure correct labe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don’t panic ;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learCase-element-entry in a 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2819520"/>
            <a:ext cx="3200400" cy="99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306072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306072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41148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3560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4356000"/>
            <a:ext cx="533160" cy="53352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50532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34290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286000" y="32767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080" y="3429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-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learCase-element-entry in a direct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2819520"/>
            <a:ext cx="3200400" cy="99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306072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306072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41148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43560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Entry named ”xxx.lib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Unable to create element " xxx.lib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38862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1148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11480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88620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411480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411480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04480" y="4152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8160" y="4152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518148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410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624852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11840" y="62485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518148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5410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5410080"/>
            <a:ext cx="533520" cy="53352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3148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05720" y="365724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88080" y="32004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Entry named ”xxx.lib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Error: Unable to create element " xxx.lib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file maybe eclipsed by a private file: rename, </a:t>
            </a:r>
            <a:br>
              <a:rPr sz="1600"/>
            </a:b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checkout the appearing file, over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518148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5410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624852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1840" y="624852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5181480"/>
            <a:ext cx="3200400" cy="990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5410080"/>
            <a:ext cx="5331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5410080"/>
            <a:ext cx="53352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99840" y="54482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5308560"/>
            <a:ext cx="457200" cy="254160"/>
          </a:xfrm>
          <a:custGeom>
            <a:avLst/>
            <a:gdLst/>
            <a:ahLst/>
            <a:rect l="l" t="t" r="r" b="b"/>
            <a:pathLst>
              <a:path w="288" h="160">
                <a:moveTo>
                  <a:pt x="288" y="160"/>
                </a:moveTo>
                <a:cubicBezTo>
                  <a:pt x="264" y="96"/>
                  <a:pt x="240" y="32"/>
                  <a:pt x="192" y="16"/>
                </a:cubicBezTo>
                <a:cubicBezTo>
                  <a:pt x="144" y="0"/>
                  <a:pt x="72" y="32"/>
                  <a:pt x="0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76680" y="1066320"/>
            <a:ext cx="89917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Entry named ”xxx.lib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Unable to create element " xxx.lib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file maybe eclipsed by a private file: rename,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heckout the appearing file, over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&lt;file&gt; already exists in some version … 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onsider use of hard link to the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80060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563868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57913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57913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4381560"/>
            <a:ext cx="4495680" cy="2235240"/>
          </a:xfrm>
          <a:custGeom>
            <a:avLst/>
            <a:gdLst/>
            <a:ahLst/>
            <a:rect l="l" t="t" r="r" b="b"/>
            <a:pathLst>
              <a:path w="2832" h="1408">
                <a:moveTo>
                  <a:pt x="0" y="1224"/>
                </a:moveTo>
                <a:cubicBezTo>
                  <a:pt x="588" y="1316"/>
                  <a:pt x="1176" y="1408"/>
                  <a:pt x="1392" y="1224"/>
                </a:cubicBezTo>
                <a:cubicBezTo>
                  <a:pt x="1608" y="1040"/>
                  <a:pt x="1056" y="240"/>
                  <a:pt x="1296" y="120"/>
                </a:cubicBezTo>
                <a:cubicBezTo>
                  <a:pt x="1536" y="0"/>
                  <a:pt x="2184" y="252"/>
                  <a:pt x="2832" y="5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518148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53341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533412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6640" y="528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53341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lear the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s for typical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a “delete” in Explorer does NOT delete the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learCase-element-entry in a direc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use rm from command line (directory must be checked 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Pathname is not within a VOB: "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check case of current directory (pwd, c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Entry named ”xxx.lib" already exists.</a:t>
            </a:r>
            <a:br>
              <a:rPr sz="1600"/>
            </a:br>
            <a:r>
              <a:rPr b="0" i="1" lang="en-US" sz="1600" spc="-1" strike="noStrike">
                <a:solidFill>
                  <a:srgbClr val="808080"/>
                </a:solidFill>
                <a:latin typeface="Times New Roman"/>
              </a:rPr>
              <a:t>Error: Unable to create element " xxx.lib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&gt; file maybe eclipsed by a private file: rename, 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heckout the appearing file, over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&lt;file&gt; already exists in some version … </a:t>
            </a:r>
            <a:br>
              <a:rPr sz="1600"/>
            </a:br>
            <a:r>
              <a:rPr b="0" i="1" lang="en-US" sz="1600" spc="-1" strike="noStrike">
                <a:solidFill>
                  <a:srgbClr val="ff0000"/>
                </a:solidFill>
                <a:latin typeface="Times New Roman"/>
              </a:rPr>
              <a:t>consider use of hard link to the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>
              <a:spcBef>
                <a:spcPts val="400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&gt; file existed in a former version of the </a:t>
            </a:r>
            <a:br>
              <a:rPr sz="1600"/>
            </a:br>
            <a:r>
              <a:rPr b="0" lang="en-US" sz="1600" spc="-1" strike="noStrike">
                <a:solidFill>
                  <a:srgbClr val="336600"/>
                </a:solidFill>
                <a:latin typeface="Times New Roman"/>
              </a:rPr>
              <a:t>directory: merge from  old dir-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80060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495288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63868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57913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7913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518148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53341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533412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6640" y="528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4381560"/>
            <a:ext cx="4495680" cy="2235240"/>
          </a:xfrm>
          <a:custGeom>
            <a:avLst/>
            <a:gdLst/>
            <a:ahLst/>
            <a:rect l="l" t="t" r="r" b="b"/>
            <a:pathLst>
              <a:path w="2832" h="1408">
                <a:moveTo>
                  <a:pt x="0" y="1224"/>
                </a:moveTo>
                <a:cubicBezTo>
                  <a:pt x="588" y="1316"/>
                  <a:pt x="1176" y="1408"/>
                  <a:pt x="1392" y="1224"/>
                </a:cubicBezTo>
                <a:cubicBezTo>
                  <a:pt x="1608" y="1040"/>
                  <a:pt x="1056" y="240"/>
                  <a:pt x="1296" y="120"/>
                </a:cubicBezTo>
                <a:cubicBezTo>
                  <a:pt x="1536" y="0"/>
                  <a:pt x="2184" y="252"/>
                  <a:pt x="2832" y="504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53341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6019920"/>
            <a:ext cx="3200400" cy="685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61722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38680" y="61722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617220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6172200"/>
            <a:ext cx="381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5105520"/>
            <a:ext cx="10670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2:19:08Z</dcterms:created>
  <dc:creator>rk</dc:creator>
  <dc:description/>
  <dc:language>en-US</dc:language>
  <cp:lastModifiedBy>rk</cp:lastModifiedBy>
  <cp:lastPrinted>2000-10-17T07:41:10Z</cp:lastPrinted>
  <dcterms:modified xsi:type="dcterms:W3CDTF">2000-10-18T14:25:03Z</dcterms:modified>
  <cp:revision>51</cp:revision>
  <dc:subject/>
  <dc:title>xPanel &amp; PCO2</dc:title>
</cp:coreProperties>
</file>